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C0B-F110-4D04-B7BD-15C7A502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D45-D747-4784-8D54-A857E3F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F0C-6C8F-4DAC-96BD-B676B2FC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248-2BD3-421A-8E34-B6721350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6D76E-7121-4576-B51B-5F3D9482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2B70-B3EE-45AC-BF14-27711CC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1A79-41E5-44C6-871B-829B58E5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57640-B7EC-496E-B07F-E8219E47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3033B-CF3B-4932-B11F-3B0F66F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8EF9-8D21-4CF7-8106-EDE3CAB8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5760D-C6FB-44A9-B6D6-82D0A51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81B-5D40-454F-B1B1-39F0DB67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B72D0-BCBD-4E87-BAA3-9C45F41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8ED1-C1A2-492B-809E-49E9564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B1BF-6317-42C2-B6BA-6798714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FA0B-2FF2-4DB9-8C3A-FC3032CF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ADC5C-1F73-41C6-8B2A-213DF0BB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C1AB0-8C70-4A64-A152-097CBA3E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9CE76-EE13-4DED-B6DB-8251CB8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3B68B-3F88-4633-BB2D-293E367D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35C5E-283B-47C4-A0F6-6AFD87E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11C00-FC28-403A-B3BC-12B5CCA6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95A-7965-4A0B-97D2-1383D5E0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B7E46-55D3-478E-9BC1-0355ADC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AED20-2CBD-4A7E-86A8-037E709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2998F-A1EB-4ED6-BE2E-1CDDC97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58DB3-B279-4A7B-8F2E-EC9F08F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553E9-2F2B-4CF8-830B-8669B53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4290A-AFD5-40EA-8D77-C4A7186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12FD1-2E39-4D30-935C-218643FA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B15A-97D1-4BD9-9288-62EA91C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FE58-DB38-4462-8CF0-4B753E6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4173-2265-45FA-8F54-24DD01B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FE4-6546-4766-B087-C40F926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B688-99A8-4103-A24E-3F5ACF58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59C4-C0CE-439C-B542-60F37A4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0E45-9F42-4FC4-B76E-B47A65A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5D59-578D-49F0-9B0A-B761EFEB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6196-3507-41FF-8DD8-D72F566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D80C-13F5-4A9B-9AD2-C3A3606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5E35-E617-4060-8727-2BC7540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8196-AE1D-484F-90DA-F27DEBDA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9D0C-4E28-446B-B248-CFA47264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914-5652-4D30-88DB-D233DD2E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5BF-AA17-401D-9BE7-2E455D6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4E2-BB66-4920-A6CC-DB12525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A91-7349-4516-822C-B34464AF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AA2-3E7F-479A-AB08-9251E5E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BFC-C4A6-466B-A8F4-671F5A71D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432-9EC6-45F5-9085-542241349D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396-E00C-4873-8697-51700C456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0B8B-3F77-4AD2-8E1D-9579C10CA1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evingong.com/Hiking/Images/199909HohRaiForest/B15MountOlympus.jpg" TargetMode="External"/><Relationship Id="rId2" Type="http://schemas.openxmlformats.org/officeDocument/2006/relationships/hyperlink" Target="http://www.world-geographics.com/maps/europe/map-of-europe-with-country-borders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MS910218941[1].wav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B15MountOlympus"/>
          <p:cNvPicPr/>
          <p:nvPr/>
        </p:nvPicPr>
        <p:blipFill>
          <a:blip r:embed="rId2"/>
          <a:stretch/>
        </p:blipFill>
        <p:spPr>
          <a:xfrm>
            <a:off x="-380880" y="-228600"/>
            <a:ext cx="10515600" cy="7381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2"/>
          <p:cNvSpPr/>
          <p:nvPr/>
        </p:nvSpPr>
        <p:spPr>
          <a:xfrm rot="20246400">
            <a:off x="762120" y="1371240"/>
            <a:ext cx="33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 rot="21097200">
            <a:off x="3809520" y="6091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 rot="18916800">
            <a:off x="4038840" y="151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 rot="20671800">
            <a:off x="4495680" y="151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 rot="1534800">
            <a:off x="4800240" y="838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 rot="1116000">
            <a:off x="5181120" y="990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 rot="907800">
            <a:off x="5714640" y="1523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 rot="1495200">
            <a:off x="6019560" y="19047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 rot="1419600">
            <a:off x="6323760" y="2285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 rot="907800">
            <a:off x="6629040" y="2285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 rot="1250400">
            <a:off x="6857640" y="27428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 rot="2238000">
            <a:off x="7238520" y="251424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 rot="2238000">
            <a:off x="7467120" y="28951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 rot="20929200">
            <a:off x="7772400" y="31237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 rot="1522200">
            <a:off x="8076960" y="3352680"/>
            <a:ext cx="7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 rot="19960800">
            <a:off x="762120" y="2971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 rot="20497800">
            <a:off x="1676520" y="2590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 rot="930600">
            <a:off x="2133360" y="2743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 rot="930600">
            <a:off x="251388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 rot="1308600">
            <a:off x="289512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 rot="930600">
            <a:off x="3276360" y="3048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 rot="930600">
            <a:off x="36568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 rot="1264800">
            <a:off x="3885840" y="3504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 rot="930600">
            <a:off x="4743000" y="4040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 rot="930600">
            <a:off x="426636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 rot="930600">
            <a:off x="449496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 rot="930600">
            <a:off x="4799880" y="41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3"/>
          <p:cNvSpPr/>
          <p:nvPr/>
        </p:nvSpPr>
        <p:spPr>
          <a:xfrm rot="930600">
            <a:off x="5257080" y="4267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4"/>
          <p:cNvSpPr/>
          <p:nvPr/>
        </p:nvSpPr>
        <p:spPr>
          <a:xfrm rot="930600">
            <a:off x="563796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 rot="930600">
            <a:off x="609516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 rot="20974200">
            <a:off x="685440" y="3580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 rot="20974200">
            <a:off x="1218960" y="3580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8"/>
          <p:cNvSpPr/>
          <p:nvPr/>
        </p:nvSpPr>
        <p:spPr>
          <a:xfrm rot="282000">
            <a:off x="1752480" y="3505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MS910218941[1].wav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2"/>
          <p:cNvSpPr/>
          <p:nvPr/>
        </p:nvSpPr>
        <p:spPr>
          <a:xfrm rot="282000">
            <a:off x="2057400" y="3505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 rot="637200">
            <a:off x="2514240" y="3733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 rot="282000">
            <a:off x="297180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 rot="282000">
            <a:off x="3200400" y="4191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 rot="282000">
            <a:off x="3657600" y="4343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 rot="282000">
            <a:off x="403848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 rot="282000">
            <a:off x="4419720" y="464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9"/>
          <p:cNvSpPr/>
          <p:nvPr/>
        </p:nvSpPr>
        <p:spPr>
          <a:xfrm rot="282000">
            <a:off x="4800600" y="47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0"/>
          <p:cNvSpPr/>
          <p:nvPr/>
        </p:nvSpPr>
        <p:spPr>
          <a:xfrm rot="282000">
            <a:off x="5105520" y="4876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20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4" name="Picture 7" descr="map_of_europe_borders"/>
          <p:cNvPicPr/>
          <p:nvPr/>
        </p:nvPicPr>
        <p:blipFill>
          <a:blip r:embed="rId1"/>
          <a:stretch/>
        </p:blipFill>
        <p:spPr>
          <a:xfrm>
            <a:off x="1447920" y="1371600"/>
            <a:ext cx="5105160" cy="4788000"/>
          </a:xfrm>
          <a:prstGeom prst="rect">
            <a:avLst/>
          </a:prstGeom>
          <a:ln w="0">
            <a:noFill/>
          </a:ln>
        </p:spPr>
      </p:pic>
      <p:sp>
        <p:nvSpPr>
          <p:cNvPr id="295" name="Line 9"/>
          <p:cNvSpPr/>
          <p:nvPr/>
        </p:nvSpPr>
        <p:spPr>
          <a:xfrm flipH="1" flipV="1">
            <a:off x="5333760" y="5562360"/>
            <a:ext cx="144756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WordArt 10"/>
          <p:cNvSpPr txBox="1"/>
          <p:nvPr/>
        </p:nvSpPr>
        <p:spPr>
          <a:xfrm>
            <a:off x="6934320" y="5867280"/>
            <a:ext cx="20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radley Hand ITC"/>
              </a:rPr>
              <a:t>GREECE!!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Landfo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8" name="Picture 5" descr="mount_olympus-jp2"/>
          <p:cNvPicPr/>
          <p:nvPr/>
        </p:nvPicPr>
        <p:blipFill>
          <a:blip r:embed="rId1"/>
          <a:stretch/>
        </p:blipFill>
        <p:spPr>
          <a:xfrm>
            <a:off x="228600" y="1295280"/>
            <a:ext cx="4038480" cy="2833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be7dd7259f"/>
          <p:cNvPicPr/>
          <p:nvPr/>
        </p:nvPicPr>
        <p:blipFill>
          <a:blip r:embed="rId2"/>
          <a:stretch/>
        </p:blipFill>
        <p:spPr>
          <a:xfrm>
            <a:off x="4495680" y="3048120"/>
            <a:ext cx="4243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Goudy Stout"/>
              </a:rPr>
              <a:t>Oceans and Coastlin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1" name="Picture 7" descr="greekcoastf"/>
          <p:cNvPicPr/>
          <p:nvPr/>
        </p:nvPicPr>
        <p:blipFill>
          <a:blip r:embed="rId1"/>
          <a:stretch/>
        </p:blipFill>
        <p:spPr>
          <a:xfrm>
            <a:off x="457200" y="1600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Aegean_sea"/>
          <p:cNvPicPr/>
          <p:nvPr/>
        </p:nvPicPr>
        <p:blipFill>
          <a:blip r:embed="rId2"/>
          <a:srcRect l="0" t="0" r="0" b="7883"/>
          <a:stretch/>
        </p:blipFill>
        <p:spPr>
          <a:xfrm>
            <a:off x="4419720" y="1447920"/>
            <a:ext cx="4190760" cy="2895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zygaria_antallagi_emboreumaton_650_bg"/>
          <p:cNvPicPr/>
          <p:nvPr/>
        </p:nvPicPr>
        <p:blipFill>
          <a:blip r:embed="rId3"/>
          <a:stretch/>
        </p:blipFill>
        <p:spPr>
          <a:xfrm>
            <a:off x="2743200" y="4495680"/>
            <a:ext cx="28670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Goudy Stout"/>
              </a:rPr>
              <a:t>How Geography affected the Govern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5" name="Picture 5" descr="ancient-greek-gov"/>
          <p:cNvPicPr/>
          <p:nvPr/>
        </p:nvPicPr>
        <p:blipFill>
          <a:blip r:embed="rId1"/>
          <a:stretch/>
        </p:blipFill>
        <p:spPr>
          <a:xfrm>
            <a:off x="1523880" y="2209680"/>
            <a:ext cx="5715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Ci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1752480"/>
            <a:ext cx="60958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kevingong.com/Hiking/Images/199909HohRaiForest/B15MountOlymp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world-geographics.com/maps/europe/map-of-europe-with-country-bord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aturetravelspecialists.com/images/europe/full/greekcoastf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upload.wikimedia.org/wikipedia/commons/b/b9/Aegean_se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grino.org/chicago/images/oil_companies/zygaria_antallagi_emboreumaton_650_bg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.aurorahistoryboutique.com/tag/ancient-greek-governme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MC900440432[1]"/>
          <p:cNvPicPr/>
          <p:nvPr/>
        </p:nvPicPr>
        <p:blipFill>
          <a:blip r:embed="rId1"/>
          <a:stretch/>
        </p:blipFill>
        <p:spPr>
          <a:xfrm>
            <a:off x="1295280" y="1219320"/>
            <a:ext cx="4114800" cy="38797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4648320" y="1219320"/>
            <a:ext cx="3962160" cy="2133360"/>
          </a:xfrm>
          <a:prstGeom prst="wedgeEllipseCallout">
            <a:avLst>
              <a:gd name="adj1" fmla="val -55009"/>
              <a:gd name="adj2" fmla="val 46875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odoni MT Black"/>
              </a:rPr>
              <a:t>THANK YO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odoni MT Black"/>
              </a:rPr>
              <a:t>THANK YOU VERY MUC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MS900082198[1].mid" descr=""/>
          <p:cNvPicPr/>
          <p:nvPr/>
        </p:nvPicPr>
        <p:blipFill>
          <a:blip r:embed="rId2"/>
          <a:stretch/>
        </p:blipFill>
        <p:spPr>
          <a:xfrm>
            <a:off x="23623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653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22:12Z</dcterms:created>
  <dc:creator>Administrator</dc:creator>
  <dc:description/>
  <dc:language>en-US</dc:language>
  <cp:lastModifiedBy>Owner</cp:lastModifiedBy>
  <dcterms:modified xsi:type="dcterms:W3CDTF">2011-05-23T15:03:11Z</dcterms:modified>
  <cp:revision>10</cp:revision>
  <dc:subject/>
  <dc:title>Geography of Greece</dc:title>
</cp:coreProperties>
</file>